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67D-06C9-41D9-8653-0D37826D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A4B-1BB9-41EE-967E-8F4A47A1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753-33B8-40CD-9178-AFC85F9C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78A3-1261-48AC-BDC1-F8BE7476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EE8-4BA8-4730-88FB-F53E83D2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240-4F65-4A01-A27B-65346DC7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046-8C25-4D87-81C4-37C7255D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154-7054-492C-B214-BE1BDF97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723-4B62-4FCA-86C4-899D037B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19C-2C9D-4773-AC50-23CD11EB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F83-C14F-4E2D-AECD-5B840454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3F0-D8B0-43AF-ACFA-625A808E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5162-BF2F-41BE-9EAD-5D6C2E1D6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0 Svoju lásku dávam te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u lásku dávam teb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 jedi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pustil si slávu nebie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mrel za mňa nevin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môj priateľ najvernejš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nie som nikdy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vo chvíľach najtemnejší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boku vždy teba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rád všetky deti tv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é teba milu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ľadajú vždy pravdy zdr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večnej vlasti putu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eď smiem k ich chválospev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ja svoj hlas pripoj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tedy pre mňa v svete cel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ôže nič milšie by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mu menu dobroreč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ždy vrúcne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o láske tvojej svedč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de hlásať návrat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je blízky ten deň sláv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k tebe privini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večne teba sláv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ť tvoju chváliť smi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0:27:34Z</dcterms:modified>
  <cp:revision>20</cp:revision>
  <dc:subject/>
  <dc:title>Je veľký náš Pán, on slávy je Kráľ Nech do všetkých strán  spev vrúcnych znie chvál.</dc:title>
</cp:coreProperties>
</file>